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142-6D0A-4A34-8484-A9F6C2C6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BE3-1D9D-4942-B1C8-8BB9E6C7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12C-6276-480D-8259-CCE9501C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3D2-6C5F-4E80-BD99-44CEF773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ED0-CC2F-4BAD-8828-77E8041F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DEF-6494-4EB3-B1DC-E60417E1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9E6-619E-4C90-BAF4-79517CBB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975-E6CC-47F8-A66D-F0634157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20B-91DE-4D01-94DD-90737BE9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AA1-760F-4807-AA2C-BA30FB1E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DD28-9373-4712-A1A5-0539553D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F81-80C2-4CB6-BE20-A985EB97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e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8FE4-CF63-4DF1-980B-9460E5C71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lanmo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e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0145600">
            <a:off x="6708600" y="4876200"/>
            <a:ext cx="2133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838080"/>
            <a:ext cx="5715000" cy="30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333399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cket Diap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333399"/>
                  </a:gs>
                </a:gsLst>
                <a:lin ang="81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257800"/>
            <a:ext cx="5791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p H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7,201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Lanmon"/>
          <p:cNvPicPr/>
          <p:nvPr/>
        </p:nvPicPr>
        <p:blipFill>
          <a:blip r:embed="rId3"/>
          <a:srcRect l="80934" t="0" r="4105" b="41675"/>
          <a:stretch/>
        </p:blipFill>
        <p:spPr>
          <a:xfrm>
            <a:off x="380880" y="3581280"/>
            <a:ext cx="1981440" cy="163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e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Lanmon"/>
          <p:cNvPicPr/>
          <p:nvPr/>
        </p:nvPicPr>
        <p:blipFill>
          <a:blip r:embed="rId1"/>
          <a:srcRect l="38362" t="0" r="4105" b="0"/>
          <a:stretch/>
        </p:blipFill>
        <p:spPr>
          <a:xfrm>
            <a:off x="4191120" y="762120"/>
            <a:ext cx="380988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Lanmon"/>
          <p:cNvPicPr/>
          <p:nvPr/>
        </p:nvPicPr>
        <p:blipFill>
          <a:blip r:embed="rId2"/>
          <a:srcRect l="0" t="0" r="62824" b="0"/>
          <a:stretch/>
        </p:blipFill>
        <p:spPr>
          <a:xfrm>
            <a:off x="609480" y="762120"/>
            <a:ext cx="2667240" cy="2608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5181480"/>
            <a:ext cx="7925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-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elsea Lanm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10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lanm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3352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lsea Lanmon invente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cket dia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e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Pocket Di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cket Diaper is a diaper with a removable pocket holding; baby powder and a baby w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cket is made up of a dry wipe perforated by a fork so it was remov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ea invented the Pocket Diaper to make it easier to change a diaper, since it had many steps to changing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Pocket Diaper, you no longer have to get wipes, powder, or a new diaper because the pocket has it all there and its remov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en your done using it just throw it away with the wipe and put a new one 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e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Chelsea Lan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ea was 5 when she started to change her little brother’s dia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ea, 7 years old now, knew how many steps there was in the process in changing a di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loved inventing stuff since she was a little gir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Chelsea came up with the idea of the Pocket Di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older brother always encouraged her to be in compet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she entered the National Invention Con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ea entered with her invention the Pocket Diaper, and won first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19:47Z</dcterms:created>
  <dc:creator>install</dc:creator>
  <dc:description/>
  <dc:language>en-US</dc:language>
  <cp:lastModifiedBy>install</cp:lastModifiedBy>
  <dcterms:modified xsi:type="dcterms:W3CDTF">2010-05-14T13:16:34Z</dcterms:modified>
  <cp:revision>9</cp:revision>
  <dc:subject/>
  <dc:title>Slide 1</dc:title>
</cp:coreProperties>
</file>